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159-EAD0-460A-8333-109DE0F2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2B3-E397-4867-ACBA-4E8654B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9C1-A53A-490F-8297-D5AF8A6F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400-31C9-4100-9598-D8F96B6D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297-F29F-4C00-9FA5-3097724B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8DB-396C-4D38-9D2E-EF81CF1E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C7E-E649-474F-B76A-E326876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F5A-5ECB-4C0F-A4B2-8B8A3559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D0A-A829-40C1-A90B-B5B3D7ED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B57-3642-4457-87BD-1B5E8E6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AF7-905A-4AED-A6A6-309DBAF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287-0ACD-4CA6-B785-65A59C4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00F-5399-4BD0-A726-306878EF2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83440" y="2437560"/>
            <a:ext cx="1824480" cy="1677960"/>
            <a:chOff x="3583440" y="2437560"/>
            <a:chExt cx="1824480" cy="1677960"/>
          </a:xfrm>
        </p:grpSpPr>
        <p:sp>
          <p:nvSpPr>
            <p:cNvPr id="42" name=""/>
            <p:cNvSpPr/>
            <p:nvPr/>
          </p:nvSpPr>
          <p:spPr>
            <a:xfrm>
              <a:off x="5100840" y="3137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6440" y="243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81880" y="243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3440" y="3137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81880" y="374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02400" y="374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41680" y="3200400"/>
              <a:ext cx="152640" cy="152280"/>
            </a:xfrm>
            <a:prstGeom prst="ellipse">
              <a:avLst/>
            </a:prstGeom>
            <a:noFill/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885840" y="3276720"/>
              <a:ext cx="60948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9T14:07:52Z</dcterms:created>
  <dc:creator>JL Dessalles</dc:creator>
  <dc:description/>
  <dc:language>en-US</dc:language>
  <cp:lastModifiedBy>Dessalles</cp:lastModifiedBy>
  <dcterms:modified xsi:type="dcterms:W3CDTF">2018-03-19T15:19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