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F59-362C-477D-A78D-F04FEB1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A7C-60D3-46C7-B03C-0FD60CF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5A8-143E-4CDA-9ADD-FC4A31B1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360-315A-4746-99D7-EDD8C76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3A4-93C4-4BDC-821F-70AA89E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1A9-F860-4BCC-B794-B383F99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91F-A2A0-48F5-95B1-80481E2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B8E-0461-4578-A011-D5DED7E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4E1-F0D6-4B03-8FBB-314B038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F91-048B-46BD-A2D7-768CC95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52F-BBCD-4802-8461-91401D4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158-AB75-4FFA-8934-D5770C1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91C3-C03A-4E94-ABA8-194434146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112200">
            <a:off x="5359320" y="210960"/>
            <a:ext cx="3780000" cy="561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3125400">
            <a:off x="1494360" y="961200"/>
            <a:ext cx="2590920" cy="485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924400">
            <a:off x="3958920" y="3897000"/>
            <a:ext cx="1800360" cy="3168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335000">
            <a:off x="-124560" y="5010840"/>
            <a:ext cx="2087640" cy="2403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86400">
            <a:off x="2050920" y="4652640"/>
            <a:ext cx="1008360" cy="208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30560" y="260280"/>
            <a:ext cx="4681440" cy="6264360"/>
            <a:chOff x="2230560" y="260280"/>
            <a:chExt cx="4681440" cy="6264360"/>
          </a:xfrm>
        </p:grpSpPr>
        <p:sp>
          <p:nvSpPr>
            <p:cNvPr id="47" name=""/>
            <p:cNvSpPr/>
            <p:nvPr/>
          </p:nvSpPr>
          <p:spPr>
            <a:xfrm>
              <a:off x="381492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492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0692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692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1492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1492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0692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0692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928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9928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9128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9128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928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928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9128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9128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1492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1492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692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492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1492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0692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0692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9928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928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128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128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928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928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9128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9128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56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056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2560" y="26028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22560" y="10508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3056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056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22560" y="184464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22560" y="26352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056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3056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22560" y="342900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22560" y="42195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3056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3056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2560" y="501336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22560" y="5803920"/>
              <a:ext cx="72072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8360" y="63104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404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2:34:08Z</dcterms:created>
  <dc:creator>JL Dessalles</dc:creator>
  <dc:description/>
  <dc:language>en-US</dc:language>
  <cp:lastModifiedBy>Jean-Louis Dessalles</cp:lastModifiedBy>
  <dcterms:modified xsi:type="dcterms:W3CDTF">2013-11-11T23:18:48Z</dcterms:modified>
  <cp:revision>6</cp:revision>
  <dc:subject/>
  <dc:title>Diapositive 1</dc:title>
</cp:coreProperties>
</file>