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258-FBBD-41FB-91C6-14B5FBE3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FF5-2D3D-411A-B87A-F276CEFF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A8-CD9B-4568-AE81-2ACA08E1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620-19B8-4276-9AD2-B1063705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B88-3B21-4152-920D-9291DFF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C9E-3D34-47A0-A384-3BF1A32E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03A-6EA6-46FF-A69B-C6F881D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C9F-0220-4781-9E72-43837BA1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3E2-B6EB-4B03-B530-1B335DF7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5AE-588A-4F62-BE6A-3E4BAAF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F2B-0F14-43C2-A58F-F22FEF3C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22E-67CA-46AD-BDE3-CB401E4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FC2-C8C4-43E8-93FA-9C67A43AE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862440"/>
            <a:ext cx="2521080" cy="2516040"/>
            <a:chOff x="539640" y="3862440"/>
            <a:chExt cx="2521080" cy="2516040"/>
          </a:xfrm>
        </p:grpSpPr>
        <p:sp>
          <p:nvSpPr>
            <p:cNvPr id="42" name=""/>
            <p:cNvSpPr/>
            <p:nvPr/>
          </p:nvSpPr>
          <p:spPr>
            <a:xfrm>
              <a:off x="539640" y="48690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4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8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2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56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43657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4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48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2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6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8752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44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48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2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640" y="5371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8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2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38624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4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48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6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58880" y="4905360"/>
              <a:ext cx="289080" cy="431280"/>
              <a:chOff x="1658880" y="4905360"/>
              <a:chExt cx="289080" cy="43128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1802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58880" y="49053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684080" y="51933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39640" y="836640"/>
            <a:ext cx="2521080" cy="2516040"/>
            <a:chOff x="539640" y="836640"/>
            <a:chExt cx="2521080" cy="2516040"/>
          </a:xfrm>
        </p:grpSpPr>
        <p:sp>
          <p:nvSpPr>
            <p:cNvPr id="72" name=""/>
            <p:cNvSpPr/>
            <p:nvPr/>
          </p:nvSpPr>
          <p:spPr>
            <a:xfrm>
              <a:off x="539640" y="18432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4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8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640" y="1339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4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8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2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56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28494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4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8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2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640" y="23461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4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48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2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640" y="8366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44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8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658880" y="1879560"/>
              <a:ext cx="289080" cy="431280"/>
              <a:chOff x="1658880" y="1879560"/>
              <a:chExt cx="289080" cy="4312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1802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58880" y="18795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1684080" y="21675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564000" y="3862440"/>
            <a:ext cx="2520360" cy="2516040"/>
            <a:chOff x="3564000" y="3862440"/>
            <a:chExt cx="2520360" cy="2516040"/>
          </a:xfrm>
        </p:grpSpPr>
        <p:sp>
          <p:nvSpPr>
            <p:cNvPr id="102" name=""/>
            <p:cNvSpPr/>
            <p:nvPr/>
          </p:nvSpPr>
          <p:spPr>
            <a:xfrm>
              <a:off x="3564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8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6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80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8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0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4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8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0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64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8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80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4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8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6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0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82880" y="4905360"/>
              <a:ext cx="288720" cy="431280"/>
              <a:chOff x="4682880" y="4905360"/>
              <a:chExt cx="288720" cy="4312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826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2880" y="49053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707720" y="51933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564000" y="836640"/>
            <a:ext cx="2520360" cy="2516040"/>
            <a:chOff x="3564000" y="836640"/>
            <a:chExt cx="2520360" cy="2516040"/>
          </a:xfrm>
        </p:grpSpPr>
        <p:sp>
          <p:nvSpPr>
            <p:cNvPr id="132" name=""/>
            <p:cNvSpPr/>
            <p:nvPr/>
          </p:nvSpPr>
          <p:spPr>
            <a:xfrm>
              <a:off x="3564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8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6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8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80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8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6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0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4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8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6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0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8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6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80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82880" y="1879560"/>
              <a:ext cx="288720" cy="431280"/>
              <a:chOff x="4682880" y="1879560"/>
              <a:chExt cx="288720" cy="43128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4826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2880" y="18795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707720" y="21675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8:49:48Z</dcterms:created>
  <dc:creator>Jean-Louis Dessalles</dc:creator>
  <dc:description/>
  <dc:language>en-US</dc:language>
  <cp:lastModifiedBy>Jean-Louis Dessalles</cp:lastModifiedBy>
  <dcterms:modified xsi:type="dcterms:W3CDTF">2009-04-19T08:41:35Z</dcterms:modified>
  <cp:revision>2</cp:revision>
  <dc:subject/>
  <dc:title>WD</dc:title>
</cp:coreProperties>
</file>