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2AC-456B-4F2B-88F5-0150CB3B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7F4-59D5-4BEA-9C97-AB3B22C3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625-839D-48F1-B1E8-46C506D5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475C-F7BF-4F16-81E0-A2262CF0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A36-B698-4787-B083-0AEF952C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79B-AB42-43DD-B940-16BE924E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04B-0C2C-4E25-B24B-9975FC0A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C87-E193-432C-AAD2-12A118CC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05A-1BE3-4C93-AF18-7F82B047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59C-A329-4E27-A8FC-48D09F86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720-F30D-4A9D-8F3C-312C71B1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D99-3FB6-4147-A777-87F08A8C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6F67-1CDE-4287-BF8B-5102F8DDB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494064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61222" t="48747" r="0" b="2550"/>
          <a:stretch/>
        </p:blipFill>
        <p:spPr>
          <a:xfrm>
            <a:off x="3851280" y="2421000"/>
            <a:ext cx="1916280" cy="2087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1266400">
            <a:off x="3131640" y="2553840"/>
            <a:ext cx="14400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7:15:55Z</dcterms:created>
  <dc:creator>Jean-Louis Dessalles</dc:creator>
  <dc:description/>
  <dc:language>en-US</dc:language>
  <cp:lastModifiedBy>Jean-Louis Dessalles</cp:lastModifiedBy>
  <dcterms:modified xsi:type="dcterms:W3CDTF">2012-03-05T07:22:00Z</dcterms:modified>
  <cp:revision>2</cp:revision>
  <dc:subject/>
  <dc:title>Diapositive 1</dc:title>
</cp:coreProperties>
</file>