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96C-D87A-4928-B885-675628DA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FD2-00A2-4783-98FA-1D2FF799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E13-C757-4DB0-8740-76847D7A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B31-4877-42E5-BFFF-B55F3807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359-3742-4ACB-9BCD-65D75930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DA4-044F-470B-B268-BA1C5A45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400-DBA3-42B5-92A1-35F1D252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B21-FE28-4838-B0BA-55D18FAF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2E5-B5B5-44E3-9021-00ED86E4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55B-B594-4395-A8B7-749429B7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863-0E14-4565-B54B-5D1E3159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1C4-8B03-40A3-B4E8-297CFDEF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F11E-09B3-45B0-B13B-ACEC721AB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494064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61222" t="48747" r="0" b="2550"/>
          <a:stretch/>
        </p:blipFill>
        <p:spPr>
          <a:xfrm>
            <a:off x="3851280" y="2421000"/>
            <a:ext cx="1916280" cy="2087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1266400">
            <a:off x="3131640" y="2553840"/>
            <a:ext cx="14400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7:15:55Z</dcterms:created>
  <dc:creator>Jean-Louis Dessalles</dc:creator>
  <dc:description/>
  <dc:language>en-US</dc:language>
  <cp:lastModifiedBy>Jean-Louis Dessalles</cp:lastModifiedBy>
  <dcterms:modified xsi:type="dcterms:W3CDTF">2012-03-05T07:22:00Z</dcterms:modified>
  <cp:revision>2</cp:revision>
  <dc:subject/>
  <dc:title>Diapositive 1</dc:title>
</cp:coreProperties>
</file>