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E6E-CF8F-4BA1-9A2C-F3839384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136-D0DB-495A-B268-8145D9A6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2FE-11A7-41F2-ADAA-E78EFBC3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D06-A328-4CCA-B05E-EFF67977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818-461C-41B0-942A-E356A0C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D62-1197-454F-B29E-F1E23958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E63-56F0-4D16-9A58-C1C8AC0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CB4-C296-485C-9064-EE1F65C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D08-718E-4195-9B2E-E9A204C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87D-8F28-4A6C-A4B3-BD4ADC3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193-4E69-41FA-8A6E-5627CA4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3BE-A2B6-4AEB-90AB-75E7C5C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07C-9E99-4F11-8AE6-E21450B0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862440"/>
            <a:ext cx="2521080" cy="2516040"/>
            <a:chOff x="539640" y="3862440"/>
            <a:chExt cx="2521080" cy="2516040"/>
          </a:xfrm>
        </p:grpSpPr>
        <p:sp>
          <p:nvSpPr>
            <p:cNvPr id="42" name=""/>
            <p:cNvSpPr/>
            <p:nvPr/>
          </p:nvSpPr>
          <p:spPr>
            <a:xfrm>
              <a:off x="539640" y="48690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4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8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5272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56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43657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4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48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272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6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8752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44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48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272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640" y="5371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8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272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38624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4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48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72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6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58880" y="4905360"/>
              <a:ext cx="289080" cy="431280"/>
              <a:chOff x="1658880" y="4905360"/>
              <a:chExt cx="289080" cy="43128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1802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58880" y="49053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684080" y="51933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39640" y="836640"/>
            <a:ext cx="2521080" cy="2516040"/>
            <a:chOff x="539640" y="836640"/>
            <a:chExt cx="2521080" cy="2516040"/>
          </a:xfrm>
        </p:grpSpPr>
        <p:sp>
          <p:nvSpPr>
            <p:cNvPr id="72" name=""/>
            <p:cNvSpPr/>
            <p:nvPr/>
          </p:nvSpPr>
          <p:spPr>
            <a:xfrm>
              <a:off x="539640" y="1843200"/>
              <a:ext cx="50508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4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8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272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640" y="13399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4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8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272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56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284940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4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8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272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640" y="234612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4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48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272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640" y="836640"/>
              <a:ext cx="50508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44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8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72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658880" y="1879560"/>
              <a:ext cx="289080" cy="431280"/>
              <a:chOff x="1658880" y="1879560"/>
              <a:chExt cx="289080" cy="43128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1802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58880" y="1879560"/>
                <a:ext cx="28908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1684080" y="2167560"/>
                <a:ext cx="2404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3564000" y="3862440"/>
            <a:ext cx="2520360" cy="2516040"/>
            <a:chOff x="3564000" y="3862440"/>
            <a:chExt cx="2520360" cy="2516040"/>
          </a:xfrm>
        </p:grpSpPr>
        <p:sp>
          <p:nvSpPr>
            <p:cNvPr id="102" name=""/>
            <p:cNvSpPr/>
            <p:nvPr/>
          </p:nvSpPr>
          <p:spPr>
            <a:xfrm>
              <a:off x="3564000" y="48690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8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672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80000" y="48690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43657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8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0000" y="43657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4000" y="58752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8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0000" y="58752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64000" y="5371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8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80000" y="5371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4000" y="38624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8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672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0000" y="38624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82880" y="4905360"/>
              <a:ext cx="288720" cy="431280"/>
              <a:chOff x="4682880" y="4905360"/>
              <a:chExt cx="288720" cy="4312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826520" y="50616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2880" y="49053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707720" y="51933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564000" y="836640"/>
            <a:ext cx="2520360" cy="2516040"/>
            <a:chOff x="3564000" y="836640"/>
            <a:chExt cx="2520360" cy="2516040"/>
          </a:xfrm>
        </p:grpSpPr>
        <p:sp>
          <p:nvSpPr>
            <p:cNvPr id="132" name=""/>
            <p:cNvSpPr/>
            <p:nvPr/>
          </p:nvSpPr>
          <p:spPr>
            <a:xfrm>
              <a:off x="3564000" y="1843200"/>
              <a:ext cx="50472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8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672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1843200"/>
              <a:ext cx="504360" cy="50292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13399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8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80000" y="13399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84940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8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672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0000" y="284940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4000" y="234612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8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672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0000" y="234612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836640"/>
              <a:ext cx="50472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8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672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80000" y="836640"/>
              <a:ext cx="504360" cy="503280"/>
            </a:xfrm>
            <a:prstGeom prst="rect">
              <a:avLst/>
            </a:prstGeom>
            <a:solidFill>
              <a:srgbClr val="d5fbda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682880" y="1879560"/>
              <a:ext cx="288720" cy="431280"/>
              <a:chOff x="4682880" y="1879560"/>
              <a:chExt cx="288720" cy="43128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4826520" y="2035800"/>
                <a:ext cx="0" cy="2750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2880" y="1879560"/>
                <a:ext cx="288720" cy="19620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707720" y="2167560"/>
                <a:ext cx="240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8:49:48Z</dcterms:created>
  <dc:creator>Jean-Louis Dessalles</dc:creator>
  <dc:description/>
  <dc:language>en-US</dc:language>
  <cp:lastModifiedBy>Jean-Louis Dessalles</cp:lastModifiedBy>
  <dcterms:modified xsi:type="dcterms:W3CDTF">2009-04-19T08:41:35Z</dcterms:modified>
  <cp:revision>2</cp:revision>
  <dc:subject/>
  <dc:title>WD</dc:title>
</cp:coreProperties>
</file>