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B2B-A443-4255-85A9-0E636E4E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126-FC72-4D04-AC74-501D9990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227-5F00-4D9A-A30D-5A4E617F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6EE-69BE-4360-A8BD-CFF7149C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AEA-44D9-405F-A668-30C4EE5F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EBD-EB50-49D4-8BF3-7454611D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15C-ED3A-47F5-9C7F-15B8EC0A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587-F444-49A9-AA36-CE8849BE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5964-ED52-48CC-BCB9-107AA233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4270-5007-41A5-BB92-C7BBA2A9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49A-EED6-4EB8-887C-526821CF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BC3E-E1A0-4A90-97B0-670EE9B4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E1E9-13BE-400A-97C6-C0D291774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494064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61222" t="48747" r="0" b="2550"/>
          <a:stretch/>
        </p:blipFill>
        <p:spPr>
          <a:xfrm>
            <a:off x="3851280" y="2421000"/>
            <a:ext cx="1916280" cy="2087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21266400">
            <a:off x="3131640" y="2553840"/>
            <a:ext cx="144000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7:15:55Z</dcterms:created>
  <dc:creator>Jean-Louis Dessalles</dc:creator>
  <dc:description/>
  <dc:language>en-US</dc:language>
  <cp:lastModifiedBy>Jean-Louis Dessalles</cp:lastModifiedBy>
  <dcterms:modified xsi:type="dcterms:W3CDTF">2012-03-05T07:22:00Z</dcterms:modified>
  <cp:revision>2</cp:revision>
  <dc:subject/>
  <dc:title>Diapositive 1</dc:title>
</cp:coreProperties>
</file>