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A627-7945-4816-917E-97727B23A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4A6D-370E-49B1-8C80-7D7F9D70D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AFAD-B137-4881-B8B3-16BC243BA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FD9E-07E7-45B9-A9AE-562F78078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DF32-AF10-4ECE-9D3C-053EBCADF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9B2E-8A24-4FB5-85C7-CFEB05A56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7AB0-E59F-4D7D-865D-35DC0BF01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EAB6-3700-419F-9A80-C9454934F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372C-5C54-4279-A03F-AD2DAAF20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D770-EBEA-44FC-A435-B7B6F853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443F-5781-43F0-8303-ADFAB5139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F07B-D13E-463A-88D1-AFABD6EE5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3E61F-56AB-45D9-BB38-8DDB8A266B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39640" y="3862440"/>
            <a:ext cx="2521080" cy="2516040"/>
            <a:chOff x="539640" y="3862440"/>
            <a:chExt cx="2521080" cy="2516040"/>
          </a:xfrm>
        </p:grpSpPr>
        <p:sp>
          <p:nvSpPr>
            <p:cNvPr id="42" name=""/>
            <p:cNvSpPr/>
            <p:nvPr/>
          </p:nvSpPr>
          <p:spPr>
            <a:xfrm>
              <a:off x="539640" y="4869000"/>
              <a:ext cx="505080" cy="50292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044720" y="4869000"/>
              <a:ext cx="504720" cy="50292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548000" y="4869000"/>
              <a:ext cx="504720" cy="50292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052720" y="4869000"/>
              <a:ext cx="504720" cy="50292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556000" y="4869000"/>
              <a:ext cx="504720" cy="50292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39640" y="4365720"/>
              <a:ext cx="50508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044720" y="4365720"/>
              <a:ext cx="50472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548000" y="4365720"/>
              <a:ext cx="50472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052720" y="4365720"/>
              <a:ext cx="50472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56000" y="4365720"/>
              <a:ext cx="50472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9640" y="5875200"/>
              <a:ext cx="50508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044720" y="5875200"/>
              <a:ext cx="50472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548000" y="5875200"/>
              <a:ext cx="50472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052720" y="5875200"/>
              <a:ext cx="50472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56000" y="5875200"/>
              <a:ext cx="50472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9640" y="5371920"/>
              <a:ext cx="50508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044720" y="5371920"/>
              <a:ext cx="50472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548000" y="5371920"/>
              <a:ext cx="50472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52720" y="5371920"/>
              <a:ext cx="50472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556000" y="5371920"/>
              <a:ext cx="50472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39640" y="3862440"/>
              <a:ext cx="50508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44720" y="3862440"/>
              <a:ext cx="50472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548000" y="3862440"/>
              <a:ext cx="50472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052720" y="3862440"/>
              <a:ext cx="50472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556000" y="3862440"/>
              <a:ext cx="50472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1658880" y="4905360"/>
              <a:ext cx="289080" cy="431280"/>
              <a:chOff x="1658880" y="4905360"/>
              <a:chExt cx="289080" cy="431280"/>
            </a:xfrm>
          </p:grpSpPr>
          <p:sp>
            <p:nvSpPr>
              <p:cNvPr id="68" name=""/>
              <p:cNvSpPr/>
              <p:nvPr/>
            </p:nvSpPr>
            <p:spPr>
              <a:xfrm flipV="1">
                <a:off x="1802520" y="5061600"/>
                <a:ext cx="0" cy="27504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658880" y="4905360"/>
                <a:ext cx="289080" cy="196200"/>
              </a:xfrm>
              <a:prstGeom prst="ellipse">
                <a:avLst/>
              </a:prstGeom>
              <a:solidFill>
                <a:srgbClr val="bbe0e3"/>
              </a:solidFill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>
                <a:off x="1684080" y="5193360"/>
                <a:ext cx="24048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"/>
          <p:cNvGrpSpPr/>
          <p:nvPr/>
        </p:nvGrpSpPr>
        <p:grpSpPr>
          <a:xfrm>
            <a:off x="539640" y="836640"/>
            <a:ext cx="2521080" cy="2516040"/>
            <a:chOff x="539640" y="836640"/>
            <a:chExt cx="2521080" cy="2516040"/>
          </a:xfrm>
        </p:grpSpPr>
        <p:sp>
          <p:nvSpPr>
            <p:cNvPr id="72" name=""/>
            <p:cNvSpPr/>
            <p:nvPr/>
          </p:nvSpPr>
          <p:spPr>
            <a:xfrm>
              <a:off x="539640" y="1843200"/>
              <a:ext cx="505080" cy="50292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044720" y="1843200"/>
              <a:ext cx="504720" cy="50292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48000" y="1843200"/>
              <a:ext cx="504720" cy="50292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052720" y="1843200"/>
              <a:ext cx="504720" cy="50292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556000" y="1843200"/>
              <a:ext cx="504720" cy="50292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39640" y="1339920"/>
              <a:ext cx="50508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044720" y="1339920"/>
              <a:ext cx="50472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48000" y="1339920"/>
              <a:ext cx="50472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052720" y="1339920"/>
              <a:ext cx="50472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556000" y="1339920"/>
              <a:ext cx="50472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39640" y="2849400"/>
              <a:ext cx="50508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044720" y="2849400"/>
              <a:ext cx="50472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548000" y="2849400"/>
              <a:ext cx="50472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052720" y="2849400"/>
              <a:ext cx="50472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556000" y="2849400"/>
              <a:ext cx="50472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39640" y="2346120"/>
              <a:ext cx="50508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044720" y="2346120"/>
              <a:ext cx="50472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548000" y="2346120"/>
              <a:ext cx="50472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052720" y="2346120"/>
              <a:ext cx="50472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56000" y="2346120"/>
              <a:ext cx="50472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39640" y="836640"/>
              <a:ext cx="50508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044720" y="836640"/>
              <a:ext cx="50472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548000" y="836640"/>
              <a:ext cx="50472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052720" y="836640"/>
              <a:ext cx="50472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556000" y="836640"/>
              <a:ext cx="50472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658880" y="1879560"/>
              <a:ext cx="289080" cy="431280"/>
              <a:chOff x="1658880" y="1879560"/>
              <a:chExt cx="289080" cy="431280"/>
            </a:xfrm>
          </p:grpSpPr>
          <p:sp>
            <p:nvSpPr>
              <p:cNvPr id="98" name=""/>
              <p:cNvSpPr/>
              <p:nvPr/>
            </p:nvSpPr>
            <p:spPr>
              <a:xfrm flipV="1">
                <a:off x="1802520" y="2035800"/>
                <a:ext cx="0" cy="27504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658880" y="1879560"/>
                <a:ext cx="289080" cy="196200"/>
              </a:xfrm>
              <a:prstGeom prst="ellipse">
                <a:avLst/>
              </a:prstGeom>
              <a:solidFill>
                <a:srgbClr val="bbe0e3"/>
              </a:solidFill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H="1">
                <a:off x="1684080" y="2167560"/>
                <a:ext cx="24048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" name=""/>
          <p:cNvGrpSpPr/>
          <p:nvPr/>
        </p:nvGrpSpPr>
        <p:grpSpPr>
          <a:xfrm>
            <a:off x="3564000" y="3862440"/>
            <a:ext cx="2520360" cy="2516040"/>
            <a:chOff x="3564000" y="3862440"/>
            <a:chExt cx="2520360" cy="2516040"/>
          </a:xfrm>
        </p:grpSpPr>
        <p:sp>
          <p:nvSpPr>
            <p:cNvPr id="102" name=""/>
            <p:cNvSpPr/>
            <p:nvPr/>
          </p:nvSpPr>
          <p:spPr>
            <a:xfrm>
              <a:off x="3564000" y="4869000"/>
              <a:ext cx="504720" cy="50292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068720" y="4869000"/>
              <a:ext cx="504360" cy="50292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72000" y="4869000"/>
              <a:ext cx="504360" cy="50292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076720" y="4869000"/>
              <a:ext cx="504360" cy="50292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580000" y="4869000"/>
              <a:ext cx="504360" cy="50292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564000" y="4365720"/>
              <a:ext cx="50472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068720" y="4365720"/>
              <a:ext cx="50436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572000" y="4365720"/>
              <a:ext cx="50436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076720" y="4365720"/>
              <a:ext cx="50436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580000" y="4365720"/>
              <a:ext cx="50436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64000" y="5875200"/>
              <a:ext cx="50472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068720" y="5875200"/>
              <a:ext cx="50436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572000" y="5875200"/>
              <a:ext cx="50436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076720" y="5875200"/>
              <a:ext cx="50436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580000" y="5875200"/>
              <a:ext cx="50436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564000" y="5371920"/>
              <a:ext cx="50472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068720" y="5371920"/>
              <a:ext cx="50436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572000" y="5371920"/>
              <a:ext cx="50436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076720" y="5371920"/>
              <a:ext cx="50436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580000" y="5371920"/>
              <a:ext cx="50436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564000" y="3862440"/>
              <a:ext cx="50472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068720" y="3862440"/>
              <a:ext cx="50436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72000" y="3862440"/>
              <a:ext cx="50436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076720" y="3862440"/>
              <a:ext cx="50436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80000" y="3862440"/>
              <a:ext cx="50436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4682880" y="4905360"/>
              <a:ext cx="288720" cy="431280"/>
              <a:chOff x="4682880" y="4905360"/>
              <a:chExt cx="288720" cy="431280"/>
            </a:xfrm>
          </p:grpSpPr>
          <p:sp>
            <p:nvSpPr>
              <p:cNvPr id="128" name=""/>
              <p:cNvSpPr/>
              <p:nvPr/>
            </p:nvSpPr>
            <p:spPr>
              <a:xfrm flipV="1">
                <a:off x="4826520" y="5061600"/>
                <a:ext cx="0" cy="27504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682880" y="4905360"/>
                <a:ext cx="288720" cy="196200"/>
              </a:xfrm>
              <a:prstGeom prst="ellipse">
                <a:avLst/>
              </a:prstGeom>
              <a:solidFill>
                <a:srgbClr val="bbe0e3"/>
              </a:solidFill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>
                <a:off x="4707720" y="5193360"/>
                <a:ext cx="24012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1" name=""/>
          <p:cNvGrpSpPr/>
          <p:nvPr/>
        </p:nvGrpSpPr>
        <p:grpSpPr>
          <a:xfrm>
            <a:off x="3564000" y="836640"/>
            <a:ext cx="2520360" cy="2516040"/>
            <a:chOff x="3564000" y="836640"/>
            <a:chExt cx="2520360" cy="2516040"/>
          </a:xfrm>
        </p:grpSpPr>
        <p:sp>
          <p:nvSpPr>
            <p:cNvPr id="132" name=""/>
            <p:cNvSpPr/>
            <p:nvPr/>
          </p:nvSpPr>
          <p:spPr>
            <a:xfrm>
              <a:off x="3564000" y="1843200"/>
              <a:ext cx="504720" cy="50292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068720" y="1843200"/>
              <a:ext cx="504360" cy="50292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0" y="1843200"/>
              <a:ext cx="504360" cy="50292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076720" y="1843200"/>
              <a:ext cx="504360" cy="50292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80000" y="1843200"/>
              <a:ext cx="504360" cy="50292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64000" y="1339920"/>
              <a:ext cx="50472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068720" y="1339920"/>
              <a:ext cx="50436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72000" y="1339920"/>
              <a:ext cx="50436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76720" y="1339920"/>
              <a:ext cx="50436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580000" y="1339920"/>
              <a:ext cx="50436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564000" y="2849400"/>
              <a:ext cx="50472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068720" y="2849400"/>
              <a:ext cx="50436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572000" y="2849400"/>
              <a:ext cx="50436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076720" y="2849400"/>
              <a:ext cx="50436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580000" y="2849400"/>
              <a:ext cx="50436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64000" y="2346120"/>
              <a:ext cx="50472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068720" y="2346120"/>
              <a:ext cx="50436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572000" y="2346120"/>
              <a:ext cx="50436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076720" y="2346120"/>
              <a:ext cx="50436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580000" y="2346120"/>
              <a:ext cx="50436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564000" y="836640"/>
              <a:ext cx="50472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068720" y="836640"/>
              <a:ext cx="50436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572000" y="836640"/>
              <a:ext cx="50436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76720" y="836640"/>
              <a:ext cx="50436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580000" y="836640"/>
              <a:ext cx="50436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682880" y="1879560"/>
              <a:ext cx="288720" cy="431280"/>
              <a:chOff x="4682880" y="1879560"/>
              <a:chExt cx="288720" cy="431280"/>
            </a:xfrm>
          </p:grpSpPr>
          <p:sp>
            <p:nvSpPr>
              <p:cNvPr id="158" name=""/>
              <p:cNvSpPr/>
              <p:nvPr/>
            </p:nvSpPr>
            <p:spPr>
              <a:xfrm flipV="1">
                <a:off x="4826520" y="2035800"/>
                <a:ext cx="0" cy="27504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682880" y="1879560"/>
                <a:ext cx="288720" cy="196200"/>
              </a:xfrm>
              <a:prstGeom prst="ellipse">
                <a:avLst/>
              </a:prstGeom>
              <a:solidFill>
                <a:srgbClr val="bbe0e3"/>
              </a:solidFill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>
                <a:off x="4707720" y="2167560"/>
                <a:ext cx="24012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8T18:49:48Z</dcterms:created>
  <dc:creator>Jean-Louis Dessalles</dc:creator>
  <dc:description/>
  <dc:language>en-US</dc:language>
  <cp:lastModifiedBy>Jean-Louis Dessalles</cp:lastModifiedBy>
  <dcterms:modified xsi:type="dcterms:W3CDTF">2009-04-19T08:41:35Z</dcterms:modified>
  <cp:revision>2</cp:revision>
  <dc:subject/>
  <dc:title>WD</dc:title>
</cp:coreProperties>
</file>